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C5A3-A960-43DE-A478-51F130E15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82D7-326C-48DD-941D-32B855A4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4EA7-56D8-45EE-86E0-C3742A717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2D59-6320-496D-BFEF-B4769C1D5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4C2F-9997-4631-9927-A02D22F7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6F8F-47D6-48AA-A513-1674B125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CA08-CA76-46A2-8F1D-F9832EAB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DCF6-4649-4D39-A793-80E49B7F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9082-7C02-4D25-AA43-6F7C2C0C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D069-2F82-48B7-B8B8-8EA5A85D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5114-34E4-474A-BABB-523672AD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08FB-16CD-4AF2-AEE8-F41690BD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DD51-6624-4212-A2A0-F2F03537E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lase de Espano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e y Este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Bander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762440" y="1600200"/>
            <a:ext cx="4152960" cy="4495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4343400" cy="2895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371600" y="4800600"/>
            <a:ext cx="2590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Brazil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48320" y="167652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3918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8:36:33Z</dcterms:created>
  <dc:creator>WSFCS Workstation</dc:creator>
  <dc:description/>
  <dc:language>en-US</dc:language>
  <cp:lastModifiedBy>WSFCS Workstation</cp:lastModifiedBy>
  <dcterms:modified xsi:type="dcterms:W3CDTF">2010-04-26T19:00:08Z</dcterms:modified>
  <cp:revision>3</cp:revision>
  <dc:subject/>
  <dc:title>La clase de Espanol </dc:title>
</cp:coreProperties>
</file>